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208B-CB43-4EE1-B0F9-4F35A018A2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первую очередь наркотики влияют на психику,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на приводит к духовной деградации и полному физическому истощению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4A98-EEC5-4595-B2D7-02059B7BD9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ри года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наркомания среди детей и подростков выросл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очти в 6 раз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2284-0AEE-4731-A600-CA8BDD5E18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952C-CFE7-44EA-8A45-56619DE3C1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2403"/>
                </a:solidFill>
                <a:latin typeface="Calibri"/>
              </a:rPr>
              <a:t>ПОМНИТ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людей, принимающих наркотики, рождаются дети-уроды или нежизнеспособные дет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18F7-94D4-4470-9637-B94B020A80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CA07-C0CE-4286-B0CB-595CF51BB0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7163-D1BF-4788-8ACE-7BE03E940C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4787-96C5-452F-BC6D-7D05541F91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П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М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F219-B5D5-4F13-A907-F16857F882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E4C1-0E3E-4B94-879A-7CB938BD60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 количество алкоголя помогает человеку сосредоточ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8E2B-98A7-4A38-8F68-572D89782E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5108-7821-43A1-9D79-781FA61B52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Будьте здоро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E766-0CEB-4CB6-BD55-1B0013B966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ВЫВОД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55AA-AE6B-4100-A890-F2938D8941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4651-F9F2-4292-876B-449016DEF5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оохра-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профилактических мероприятий, низкое качество медицинской помощи, несвоевременность её о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CC6F-C554-4887-A586-0061A1B015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среда,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воздуха, воды, почвы, резкая смена атмосферн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2FBE-2408-463C-A97A-AEFFB397A0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ка, биолог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расположенность к наследственным болез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E47A-9E52-43CD-9A18-3F64407A55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жизни, привычки и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972A-DA3C-45F3-9443-AF6E44B079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5F49-1486-4C03-8A5E-8083D0E51A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FED7-4083-434D-8B69-A25EBA0B5F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0D6-4491-48F0-84A7-3C556678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FBA-839D-4805-8D60-8E5879B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BF7-7105-4629-93E5-E4309FD1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9B9-503D-4E33-922C-BB46735C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2241-85E2-4481-83CE-289C877A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47BF-6F7C-427A-BBED-8222F628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AD1A-D3CC-4E75-9505-D58697EF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8743-8366-4D6B-A88D-B5F3EA3D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8814-5F25-48CA-819F-A02BDA59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EE77-DD76-4A57-8970-9A3D5328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3AB9-7F6E-4F4F-9FBD-5D41666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963-3FE8-4C16-8D2D-A09AF0CB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4CAF-ACBF-467A-856B-A8B70D77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E45C-3F64-463F-96A0-A7112D7B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B35-0B07-4A06-8217-E22E9364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9A07-9BA0-4B09-9D9D-92C83896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3119-3E7C-4743-9CD7-BF44AB81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2E0F-0481-4930-9404-99D1B35C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96D5E-6919-4160-82CB-B173555A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DF3D-F444-484C-8DA4-3BB603EB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E385-56A7-4577-9BBC-54E3F5E0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EA923-E21E-470C-AA73-EEE65D6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EAD-E09F-48E8-860A-3EE4388F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DB44D-8B31-4C6B-BB20-1E2535D1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6A840-0B04-4C00-B82B-755A7075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A01FD-A00A-4361-A6D6-059CE107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FE5F-EE2F-449C-8C06-D0E7EF15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FB2E9-6CEE-4180-8142-6F013662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03F0-760D-4D67-A152-1C911CF3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3117-EF5E-4EB6-8CA9-BF9FA3CD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A8B8-EE89-4F9F-B43E-AB921A15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1B7EC-A739-4DD9-81C7-C5D12E12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610D-42FF-47B9-99CA-E3D7FD63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EA8-6017-4FA1-99C3-F0B6666A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3892-EC44-449D-8BBD-1AD8EC30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3CE00-4070-40FA-AFBC-B5F3EC78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CAA68-B597-4307-8DE7-8F04ED07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8583-A78E-4FE5-AF9A-90E3BD1E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6AA4-3537-4257-AA0D-BE94F44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E16D-BEF2-4CB4-9BC9-7E41E34A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97D6D-4CA6-4754-9290-E9C70A1F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405E3-23A4-49A6-9D27-CD2871D2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59F4-321F-4FB6-8417-90FF7996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7BBDC-A716-4B85-A6C3-B6E0B8B9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EDA-0455-48C5-89D6-527F21D4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DF984-3561-40CB-8F82-E6949A15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34EB3-5EFB-4A8D-8CF6-CEB1133A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46AE6-EDA6-495D-A981-DD45962A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74C45-58CD-486F-81B4-F84F21DA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72B1F-F6AD-491A-8532-36A65872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5AFFD-3839-423F-A3CF-5F08F42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7D669-E18D-4E6D-BC43-53A0DA4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051A6-C105-46D2-ABE2-0717A58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D5F56-E36A-4B2D-9C48-25338A56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3D0B-AC25-4392-8232-041674D2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3C8-C232-4A82-A1FC-EC822D51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26319-1001-4BEE-96CC-CCB6B434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02F31-F595-44D3-9E12-18A086A9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73534-FF43-4466-A17A-99ADB058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F21E7-394D-4B8C-A89D-FD70129E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5C82C-EC47-4A2F-BFA5-3117808A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9F03F-6341-46FE-AE2C-CB068DF7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0F0CC-0BE3-4D87-BE47-FCF1ADC8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D237B-83CD-4286-9F68-FE88E319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0AD5B-7D46-48C5-838D-1EFCEC76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DFE7D-81DC-4CA3-9622-DDA4586B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E1C-0AB0-42BF-9A3B-9B2CA617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8EC2B-0CE7-414B-9796-E2DEE014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97B6F-CBA4-4CD6-BCB9-1F8B6E39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6A6700-A279-4295-91A0-C7D29AEA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E4A-57A1-441D-AB9B-793B1D25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494-F076-4E6E-B864-860BFBD7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F9E2-339E-4750-8024-60D817566E13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6E89-DAB2-4EC0-8725-08AADB2845E2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E02F-DB86-4E16-BF1D-9E2D51A471B4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E319-DC88-418E-83C6-296D9F7853F2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505D-51D3-44BF-9813-A6350729B99A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EBD9-8C65-44D3-92EC-384E4901F2B7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C591-7BA2-480B-BB7B-21DFD862A22D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F8FC-5D21-4EF6-94EF-0EAFDC4A817B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252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256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260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4EC4-B580-4571-9E6A-E6DAA7623340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150F-048B-464E-813C-F44202E4F362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A005-927F-4662-8DDB-3D9167337DD3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0CF5-CBE1-44C3-92F5-F54630939AA0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56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14" descr="i5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390" name="WordArt 4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db5353"/>
                  </a:solidFill>
                  <a:miter/>
                </a:ln>
                <a:gradFill rotWithShape="0">
                  <a:gsLst>
                    <a:gs pos="0">
                      <a:srgbClr val="db5353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db5353"/>
                </a:solidFill>
                <a:miter/>
              </a:ln>
              <a:gradFill rotWithShape="0">
                <a:gsLst>
                  <a:gs pos="0">
                    <a:srgbClr val="db5353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2" descr="21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16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7" descr="19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наркомания среди детей и подростков вырос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удод2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урод1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870840" y="714240"/>
            <a:ext cx="487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865800" y="15001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28800" y="2428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28800" y="4357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214200" y="135720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642960" y="500040"/>
            <a:ext cx="77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1428840" y="1652760"/>
            <a:ext cx="5940360" cy="52052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2428920" y="1071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2641320" y="1857240"/>
            <a:ext cx="3809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Т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ИД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П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ЗОПИ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ЬЯ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М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МИ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-357120" y="1500120"/>
            <a:ext cx="6429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3"/>
          <p:cNvPicPr/>
          <p:nvPr/>
        </p:nvPicPr>
        <p:blipFill>
          <a:blip r:embed="rId1"/>
          <a:stretch/>
        </p:blipFill>
        <p:spPr>
          <a:xfrm>
            <a:off x="5894280" y="0"/>
            <a:ext cx="3249720" cy="471312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214200" y="78588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214200" y="142884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81720" y="2000160"/>
            <a:ext cx="90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214200" y="3214800"/>
            <a:ext cx="819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0" y="2643120"/>
            <a:ext cx="80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льшое количество алкоголя помогает человеку сосредото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14200" y="3857760"/>
            <a:ext cx="64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14200" y="4572000"/>
            <a:ext cx="65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214200" y="528624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ісце для нижнього колонтитула 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571680" y="500040"/>
            <a:ext cx="77864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500040" y="14004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Будьте здоров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235080" y="597960"/>
            <a:ext cx="875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ВЫВОД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785880" y="57168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МЫ ВЫБИРАЕМ ЖИЗ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6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786200" cy="45720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50004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642960" y="20718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642960" y="3143160"/>
            <a:ext cx="40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071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642960" y="50720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42920" y="1071720"/>
          <a:ext cx="8786880" cy="5047920"/>
        </p:xfrm>
        <a:graphic>
          <a:graphicData uri="http://schemas.openxmlformats.org/drawingml/2006/table">
            <a:tbl>
              <a:tblPr/>
              <a:tblGrid>
                <a:gridCol w="2428920"/>
                <a:gridCol w="2286000"/>
                <a:gridCol w="4071960"/>
              </a:tblGrid>
              <a:tr h="210312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дравоохра-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эффективность профилактических мероприятий, низкое качество медицинской помощи, несвоевременность её оказ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42920" y="928800"/>
          <a:ext cx="8786880" cy="544032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3643560"/>
              </a:tblGrid>
              <a:tr h="29858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яя среда, эколог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язнение воздуха, воды, почвы, резкая смена атмосферных явле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42920" y="642960"/>
          <a:ext cx="8786880" cy="5519880"/>
        </p:xfrm>
        <a:graphic>
          <a:graphicData uri="http://schemas.openxmlformats.org/drawingml/2006/table">
            <a:tbl>
              <a:tblPr/>
              <a:tblGrid>
                <a:gridCol w="2571840"/>
                <a:gridCol w="2500200"/>
                <a:gridCol w="3714840"/>
              </a:tblGrid>
              <a:tr h="30654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етика, биология челове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расположенность к наследственным болезня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57120" y="0"/>
          <a:ext cx="8786880" cy="6215040"/>
        </p:xfrm>
        <a:graphic>
          <a:graphicData uri="http://schemas.openxmlformats.org/drawingml/2006/table">
            <a:tbl>
              <a:tblPr/>
              <a:tblGrid>
                <a:gridCol w="2357640"/>
                <a:gridCol w="1785960"/>
                <a:gridCol w="4643280"/>
              </a:tblGrid>
              <a:tr h="2071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2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 жизни, привычки и повед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2"/>
          <p:cNvSpPr/>
          <p:nvPr/>
        </p:nvSpPr>
        <p:spPr>
          <a:xfrm>
            <a:off x="2071800" y="5500800"/>
            <a:ext cx="48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2" descr="НАРКОТИКИ1"/>
          <p:cNvPicPr/>
          <p:nvPr/>
        </p:nvPicPr>
        <p:blipFill>
          <a:blip r:embed="rId1"/>
          <a:stretch/>
        </p:blipFill>
        <p:spPr>
          <a:xfrm>
            <a:off x="1143000" y="0"/>
            <a:ext cx="643428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357120" y="324468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1357200" y="4857840"/>
            <a:ext cx="542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1" descr="13"/>
          <p:cNvPicPr/>
          <p:nvPr/>
        </p:nvPicPr>
        <p:blipFill>
          <a:blip r:embed="rId1"/>
          <a:stretch/>
        </p:blipFill>
        <p:spPr>
          <a:xfrm>
            <a:off x="857160" y="-219240"/>
            <a:ext cx="6858000" cy="71056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810000" y="142884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093680" y="3929040"/>
            <a:ext cx="669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16:45Z</dcterms:created>
  <dc:creator>COMP11</dc:creator>
  <dc:description/>
  <dc:language>en-US</dc:language>
  <cp:lastModifiedBy>LEGION</cp:lastModifiedBy>
  <dcterms:modified xsi:type="dcterms:W3CDTF">2015-05-12T09:00:37Z</dcterms:modified>
  <cp:revision>32</cp:revision>
  <dc:subject/>
  <dc:title>Цель занятия: Смоделировать самостоятельно возможные меры предупреждения вредных привычек у подростков</dc:title>
</cp:coreProperties>
</file>